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307-2F6C-48D6-A55C-D7E8BDFE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6DF-3162-4143-B5ED-B9D1DFBB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964B4-459F-4BAD-9C88-CA3B4872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C16EE-7509-4F2E-BCF4-EF8535B9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94693-D0F7-4786-A791-7BB299A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5DC29-8D25-4AFE-864C-BBF1EFC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5B332-8223-4695-9DFE-740B4E48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EDB2C-0164-42BC-B1F9-D30E5C28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5DFAD-375A-46F5-939A-6745D5AA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11637-E323-4109-A12F-AEAAA433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64159-0C75-4999-AD04-B810899C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113E4-A76D-4F8F-8085-CC5CF36A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FC0-C4B5-4FDE-AA25-1487C1DF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D00F2-412D-4149-9D8D-3B040A5C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4AEF0-0859-4B34-9623-0935BF98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163E1-A8E0-4A0C-AA37-A2EC6986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122BA-9B2D-4A3A-AEDB-DF6BFCCB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6F12B-1F30-4D9C-A6E5-A70F8CB9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4B286-8157-406E-9F82-663CFAB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71F28-7C38-4E43-B110-387BCDB1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F6979-D0CC-448D-914D-C8C41382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8CE8F-01B9-4E7E-828F-F4FD48D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446F6-6CFF-4385-A4B9-11ECB5AD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134-62F8-49C4-A56C-112A3852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5BFBB-34C5-4D94-85D8-5296A5A1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3BDAB-1708-40E8-BEC1-0745DDC8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F35CD-B4B7-413E-93E6-E31A15F4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B9D42-FEDD-4EDE-A450-E4BF050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3AC0B-9121-435A-BAD2-72AFA70C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CB348-B81A-427E-AE41-64C2E612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1152A-F151-4A15-96E5-17FA18CF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372C0-6C08-4393-AE42-DFD7B804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8EF9E-A84D-42F0-B690-6B3D6EE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13D61-A6EA-4A54-89A8-37A1781E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8CA0-655D-4202-8B1C-BA1F98A7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FE817-139F-45FB-919A-95C6144C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4A02F-A3B1-4C1E-A8C2-87ADAF00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28541-71A9-492A-B14D-641027DD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76242-E310-4837-9B2B-2D26001C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8237F-36C2-4133-9736-0CA770E5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B300E-532D-498F-8989-9E9B3466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9E95F-95EC-4A0B-87D7-2F00A4A1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C57C4-D0E8-4AFD-9C25-418824B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88CF3-3C55-4401-9076-C4B8727F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2864E-9729-4774-B2C5-AFAB484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8BC-62D0-45C7-A089-ADB79C32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C5C18-FD62-4998-BD92-8E14362C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CFD4A-C96C-493A-A497-64E88609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C3882-0A0C-4B38-94DD-4D2EFDB3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A0ED6-720F-4C82-98E6-455B3BB4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C29F1-13CD-4CDF-A34F-EE505DAC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3C971-C889-43C1-9E21-EB98BC17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8A5C3-75C5-4271-AACA-B38076B9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93936-E28A-4777-8B59-69600E01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1D23B-29BD-4C85-95E0-014CBE5A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0F5A4-EE90-47E1-9729-FAEB3BE2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C471-1A9B-4F4A-ABD7-75324FEF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3764F-DC0D-4677-9DF3-1299BA59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BA9A9-D041-4111-BBE1-891721BB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FD962-8208-4540-8369-60E83314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7FF95-1522-4F2C-B375-F303851B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FCAA3-BA8B-4F51-8308-55C65FD8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0F511-D954-4598-B3A7-C7FC13E6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C9250-1010-4F09-AEFB-EE327D75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70FFA-633C-41CD-A9FC-1094E631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327D8-92B5-45CF-8657-4261C8A8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DA32F-F6AE-4669-AEA1-6B4B83D8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E92B-8D44-45F1-9CBC-781EB089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CAE46-32B7-4DEE-A866-BF66B13A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1B64F-3393-4AAF-8B78-CAA1CFBD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46A2C-2E09-49E7-93E9-13772E1F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69074-7A1F-4E43-A919-BCF9CC51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F038B-C825-4B66-9901-4AE54B48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7289C-74E3-4ADC-9037-69DC4DD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69DE5-ADAE-492F-9AF3-394C5CBD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DB4C0-64BF-4487-81E3-602A0CA4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74732-BFAA-49E1-B0FB-25B57855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940F4-C2F2-4104-B789-F623E943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C9A6-CE66-4901-A608-5987F31C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BE2CD-B8FF-47AB-83AC-803C5100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5D75B-5D9E-488B-8C34-2F85054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1F290-6EDE-406D-B5DB-FAA8D030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03E23-9B89-4AC3-8290-71E1B172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16B31-6F7C-4D6F-A730-0BF74353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DFBD5-CFE9-4BE5-978F-59CA38C8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C368E-8A63-424A-BD25-D7F2F19C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F6030-AB9C-49D8-8866-8C9A98BE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6293B-4108-4189-A375-72117579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9CA6C-D61F-4B7B-9CF0-76D4FBAC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0B5E-E954-4490-899A-A27CBC18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8070F-73C4-4E07-B97F-91D6C678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7BDC5-0E6A-415B-8797-C0251729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4B544B-7B0E-44B4-91AE-3386DBB4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B9B7E-7EB4-4368-8C2F-41DCDF7C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3EC70-BC43-47DB-B699-B3092B94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67648-8E22-4FF3-9BDD-57949F73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4DA4C-B004-4403-8C8D-BC4FE17A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F4607-F44E-447C-A7D9-183C762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7B4DB-4D78-41AE-B669-DFDE7236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FD1CE-5315-4842-8786-0C9FD0A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225F-5A32-4E26-91E9-F46ABB6F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06B8B-FB33-4159-87FA-6D825A07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A7E66-4119-4995-9D5D-534D42D4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5F2567-0805-4A7A-99EC-79AA695B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0BF04-6FF9-4DFA-9CDA-00727B36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1C8A92-D976-4AC4-BF50-7ED45A08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226DA-81E3-4C23-A67F-A688F19B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15C2C2-F599-4182-A782-256804F3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4EFC2-2E63-4928-B513-A1955712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90E7B-7731-4553-8513-A57D96FA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9D73C-C851-4AEC-8057-DC1EE415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ABB-49CC-4889-8C63-9CA4DEF7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31EA-AEC2-442B-B9B2-D3F36C8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DFE72-FBA3-42B3-B3D0-6CC45E6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07411-3865-44DE-A0D1-782345F2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04F34F-D1AB-4DE7-8132-25992D22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CC26E-C56B-42F6-8EAB-94092803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0C9353-ED0B-49A6-97E8-D16966C4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03110-7711-42DB-BF50-50EB88FA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73384-DF36-41A7-BF94-885596A5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AC79A-3CE2-4AE5-AF3D-171CC95F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C9FB2-984A-493B-B942-66E962C6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7DAE15-89B5-4541-BEA6-678F4D9E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F6D3-FFD2-4D91-BE34-D066B2E0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5142E-8E96-4723-8D3E-B8EAD24C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3FB9E-934F-403C-8B0A-C3BB7F85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82822-0566-4FF2-AA8B-BE214249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1513D1-5CAB-4D6F-BB9C-DB3D9A2E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1FF90-00A4-419A-A645-1A5C0ED2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3B289-B2A4-4CA0-96A1-1205C3CC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FB2F9-C129-479D-A92F-D6584A93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80F02-251C-4E00-AC62-C88A873C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F73A1-0F68-4636-B3ED-ED13AC52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247C5-3300-48CD-B835-2164028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F32C-2C70-4607-948D-A5C850B1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31D5E-E634-4CC7-B65A-10E51F34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DE661F-2C68-49EC-BEA0-C317B244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7DEFE8-2DAB-48D5-8C7D-AC66D7E2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F4664-372E-42C1-9DA1-BD510EAE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8E1ADB-0830-40C6-90AF-C62D146E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320CF-17DC-46CB-90EC-A896D3C1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1C23E-50E7-4A2F-8DAA-3B3216BD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C5C7D6-F946-4A27-90D3-B7E13F1B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5FD94-75FA-44E7-B09B-2537DBC3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8187EC-EF23-41F4-BEAB-BF5EC71A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9CF0-B51B-464C-B83E-6BA04EEA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667BA-B11C-4860-89FC-1F8DDBD9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45B170-2B5E-413C-A083-7F568424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F6A6F-BB65-4AC6-85CE-2F3DDE09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957B7C-6061-4570-AAE9-71AC6369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A9910-A34A-4A9C-999C-27E43D14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02BC8-9071-4AE6-8F90-2903ACDB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8C604-23C0-420C-94A0-19CE6CD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D681D-216D-4528-A508-0396D96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EA97B-56CF-41A6-8613-0A97F59C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B941F1-BD7E-42D0-A01F-C0DA76C2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190C-D9A9-480B-8B10-68766617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EECB8-091E-4C64-A5D2-C7BF46BD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E6D205-0384-404D-922D-8DE03671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691CF2-0434-496A-A4A5-B518E388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E35419-4A54-4BD8-BB40-E8E2CD0F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77622B-7E9E-4C31-97B7-C342E3B9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9CC04-6DFB-41B1-9339-C8A4C99A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75B02-031B-411E-A7C9-4E3B283A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E2795-99D5-466D-804B-F0437F6C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DEB34-85B6-4159-AB17-55653BB3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77B005-A94A-42F2-B3C6-490006FB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9A6D-90BF-4FA3-BEB6-E88D4352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6D7DF-B564-4AEB-8C9F-D075435D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D378B-B56D-4782-94E2-5D295E4A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29A2F-76C9-469A-B134-A060E1AD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35CBD6-2FB4-432A-BC67-17DD54EA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52AAFD-50DF-48C3-BDA0-B1767CC4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2D2A01-1B0C-45F4-BE23-81895224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632041-2809-4D7B-B912-6A43F740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F19E8F-577D-4AF8-8C1F-EDFADC61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ECB9E9-6BAB-467D-8497-435B3018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E45557-557B-4352-B977-A5FF05F6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FEF3-721D-46DA-8852-276AB02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F571BF-8E24-48AE-B039-19DD7F32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5FD824-C127-4FE6-9682-30164A5E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80D48A-15B7-4ACC-A938-D86B84B9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6D9C2E-3E3E-4A2E-BA4C-7FBE339F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E6482D-7328-4F21-A305-5F89BD44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8E930E-4940-48BF-A1BD-528E7767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2EE3E2-61D7-4681-85EA-3590C127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7F464C-8A76-455A-831A-EC1E890F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4DACA3-E04A-4ECA-AA84-7038B821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E8D5C-2631-4928-AFB8-46AB46C2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2ED1-8F4E-48B2-B077-DFE60F82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297143-89EE-4941-AFCC-67031B84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FCC115-4B87-4160-BC46-6043B4A2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E5C9A4-7CD1-4ECC-981B-1F14E0C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110145-AB5E-4048-9416-FA4C5915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052DE1-E334-4140-9C02-A589160B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192305-DD1A-4735-9FC2-D56BC9A5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79D20F-943F-4CBD-A0FC-07EFA541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321D2B-4039-4DC3-9166-1DCCFE0C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60C731-789A-4997-851C-A82D3B5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4777C2-6D6D-49C6-86BC-E0FB9FD5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0367-7D6B-4EF4-A99A-714FA7F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160FFE-3047-4306-9AAB-17B19B1F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18E8B2-509C-4817-BEF2-1411EB90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00148B-88CA-4B4E-9529-0C162254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17EB71-6A4F-4E81-A932-2A0ED2C6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8ADCE6-737A-4798-B285-A192469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19F8A9-4C80-4797-BCB9-0DBFA07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C540E0-54CF-4A93-901E-B87CC81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2FAE4B-09F3-4AE3-8654-565C6F6B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3BD43F-D896-49DC-8984-2EC17E21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2740A2-FE34-4223-9AE9-4F1CD02B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EC05-9AE3-48A0-9E7C-A09FF40D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33A0F0-5DEE-4C1B-9C8C-171BED4C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E1A948-26E5-4F33-A552-F48D700F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05301B-D63A-4564-A9A8-67AB6CB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D2A8B9-7684-406D-9427-612487E0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B85AE0-46AC-47B0-91F9-EA8C81F4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7D9106-B977-4277-989F-18B1ABA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A9A3E8-0B4E-4012-A89B-9DFBBCEB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EC8E2E-FE99-414D-A793-9A0D295A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255B71-35EA-4774-9143-C48BE160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7A0A53-2C39-4181-A67C-45EA97AE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D08-FA65-455B-BFF6-A2C76FA9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AB9A-FCC7-44AA-BEAD-126F4470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DC1230-0FB5-416B-8FEF-03B1F0FB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9CEE74-DCAC-492D-8410-2D76FA54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2C48BE-7F53-4186-8D6F-9F897ADC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66B0CC-6460-482E-9ADB-ED46CA30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BA3032-A5D7-4DBC-A779-4A60B92B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287F41-3179-480A-8E67-0890EBE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C2F34F-A547-4D30-805F-ED07CC97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BC605D-4FE3-498A-AC24-DE0C46A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A48919-FC11-4455-84E5-45691F22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3CBD17-7C4D-49D4-9CF4-69BCD5F9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FD271-B96D-4C6A-A822-E0EF834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78F1B9-25F1-4462-9998-FCE1E0CD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D254B1-7950-41CA-BD1B-0B5CEC47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8BCF89-3649-40B9-AD77-DBFD51D6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6C0848-5430-4D24-9B42-0602CDDC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E69BC4-FE8F-470B-B6C1-6B569CFD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908CD2-AD61-4ECD-9C92-49322B2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464072-7F5C-4FBA-BE67-5DAEA470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BD22F8-43BE-4F72-9B05-9541AD62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7D5DFF-3392-4106-BA3E-1E7AD7D5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35375E-C5B3-41BC-8829-06B990C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89FB8-2254-4B7F-AF3A-7AE1A2D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9AF6DA-1018-43A8-9FC2-C69FA6C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9F15CB-14FB-444C-A5FF-483109D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3F8261-B076-4CE4-B417-282AD077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21B7B0-05E0-482E-8E04-A828581E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2D0E97-5A4B-446A-9274-5F39AE12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B2D288-9576-4575-BC08-D81F2783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57ABE7-650F-4337-8ED8-DB4D2F8D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A304DD-CDCC-4924-9B47-BAD39DAB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796474-BB64-48BE-95E2-B0D5836E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38973A-3A36-4360-8C28-41441C4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70E61-FFB5-44D3-91FB-B2BAE1C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BE5808-CFB9-4559-A8F2-3A8A168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25F167-DD26-47CC-AB3B-68CFE068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DE992E-5DEC-4C61-A81D-B1B2191D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0F8540-5A10-4A41-8BAF-6D66A05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BDA361-AC56-4BFF-8DEB-C47B17DC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A553CC-F450-4D6A-9D60-474E5C46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873C74-AF5B-4CA8-AD56-C66690F9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77997A-FDC0-49AE-A8D2-D0D14187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B3DAAE-B051-4B19-AE30-3F7A1664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422E1F-C901-4026-8DCD-CEF4165F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120F-F202-4B9C-A644-300A585D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EFF49D-67D2-4A9B-98C3-858964D8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605994-4843-429F-944E-C317EE3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12EA2C-3773-425D-B78A-5E34E693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8E7684-73AE-4B12-A92F-97A0CF7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0BF580-F215-4DE0-A206-4EE4F87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F76DDA-0AFA-41BE-9175-7CE40C0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92AF64-9B8F-4751-B148-8BB0A0CB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B2999D-7BFF-48E4-8449-1D6E4705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6527FD-6B99-4E2D-A85F-7795C88B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51DA6C-DF65-45C0-99A6-F73D42D4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E8E0-5021-486F-8E2E-7A9C43DB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250B0C-0D89-4CCD-A4E1-80936B76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721BE6-9033-43A8-B927-EF30919A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599354-382F-4FF3-B568-C3011B45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71F43B-2AA6-4872-AAD8-59B46AF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AD07D8-DCBE-4F71-9612-4622E713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6E3EBC-6520-423D-A314-4FD855C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4344A0-84E8-484A-8235-3DB8503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04CB40-D6B6-4B2F-8593-374ECFBC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CDEA1C-555D-40F1-9AE5-FF252C98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D2F369-3172-4266-BC13-87CF6F75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30EE-8FF9-4635-AE54-28E079D1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73662D-D9B6-4BF4-AF0D-1FFE2C54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9A34CB-D104-480C-88EC-15CD93AC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B4DB5A-6BB3-4E74-997B-AC04225D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C8F7C2-DD10-4D2C-BD95-9F6E57D0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F98097-625C-48A8-BC58-06C528E7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23CA4A-70C6-4F3E-B02F-DE453F3C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4ED8AE-D354-4C3C-ABF8-4AE89629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2B8B28-6A18-4BE5-84E2-FF279E41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F0046C-B30A-440B-B1D0-234CAC9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43D889-8FE2-4910-B39E-936CF8FD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55FC-A57A-4C41-8C44-DA657D0A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1EE04F-8BCE-4B08-9657-4B91FC8A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92E003-2481-44F0-BC7A-435B5EAE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1B2224-21F7-494F-8A80-C0C8A650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2C84-6B23-4A02-95C8-0CE2D825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77AA-0CB1-43FD-9F5A-6317840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8D3-5A59-4C40-92AA-342492EE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E80F-1847-40D2-BEEB-030CC1D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1F94-38D7-442D-B183-D85AC21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8B0B-5A6E-4C14-BB2A-08317783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3500E-3A44-4CA4-9D76-38EB3BA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6C98-A091-4032-B638-B470FA3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2E788-673E-4BC7-ADB9-32530B0D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0214-2C30-404B-A894-10F283C4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D7070-D3EA-463B-A4D6-F051793B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AC4E3-51AF-47DF-AD2B-3745AFF7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18764-A697-40C0-B2CD-36C5B164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A17-52E5-4E40-B122-1618842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443CD-8224-43E1-BCA5-F66705E1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2EA62-B250-49AE-97B3-B7204E92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E39A-06F7-458D-9ACC-E4243F26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DD034-0A1A-4BD0-A5A2-C8F2A72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6737-81C0-4CE8-89D7-7EFDF296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A2E1-8ADB-4307-8C2B-125020D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8911F-94AA-4918-9225-C4BCA3CD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745D2-BB75-4A6A-A28D-7A2377FE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18E2-0D4B-419E-81AF-FC2D89C3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F6C8E-4B32-47D7-93C5-DA53D595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62C-995B-4F1D-89A0-2DB65BC6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AB12-32A1-46DD-8739-EC3B47B5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A36F-7094-44A5-A03A-3E3BCB23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D173E-E2DE-4B1A-9530-D5017EF2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CDD53-1277-459A-A078-0A61048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42419-97B1-4744-BF80-E2892ED4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519F5-87CD-4841-A3CF-B2D8795B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DD6F-0B3A-4A94-944D-4302AF5A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9DB4-B085-41F8-BCE1-D89ADF3C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EFF0-B90B-4E82-81A8-91CE91BA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81B9C-B977-4C0C-BC16-1BE7AC63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F4C-1A62-4EBF-A6C6-3C5B1B0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C621-6D31-465B-B28B-24972F1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43EF-63D5-49C4-91D2-E481AB87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79702-00C6-4D3A-8626-B196C1B8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7D46C-620A-4928-A96C-5EC6D877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AAA0-4DB5-458A-85F9-1F3CAAF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D9F9-777C-4A3F-A968-3A1C9DF1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5C479-9360-4025-9197-4423C37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6E467-6521-4E3C-BE2E-DF51D136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839B5-0317-4E76-88FE-5982C777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E47A5-4C8D-4529-A1B8-75DDA46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772-9FFE-494B-B1C4-C4E8FD65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C7D7-3E01-42F9-99F7-3167D406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32AFB-A23C-41CB-85AC-A89E9DC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373BA-0D42-4A4C-AE3E-8531C53B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C3CFC-FC3F-4535-ACE3-4E305641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8155-FD4B-4BB5-8399-C378C2FA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B500F-3BFB-47DD-A15F-94323DA1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CFBB-05E3-4E1B-B4D6-7EFFA2A9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90887-22AC-452A-84D2-569C1DF1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5ECF4-FD20-4711-98A0-6AA9F591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33F06-23B8-44BE-BFC0-4C3323B2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876-E266-4259-A6A4-D0BEB7BB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819E-8EFA-41A1-BADC-62851980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61192-0C90-4B3A-8521-F4A0221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62442-C5A9-4945-8DB6-CC6A8DA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9A97A-AE25-409A-AF07-A48FCC3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D5E23-9BAB-4750-92FA-293A0CFB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51547-F21C-4A61-ABD7-EC61C331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E44D6-DE60-40E2-AC42-E3A4602D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1BADC-079F-4CA6-949F-E99588D8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3223E-AFB2-4316-A959-6F0B46EE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6403C-C537-4EAE-A302-C530E33B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4735-8D7D-471D-AA30-C7DA2F4C08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54F0-B1CB-4618-B62F-430BA55AA1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489E-F23C-4252-8A63-60E787DE99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B1CD-DC67-42E2-A764-04A7E1D4B6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3084-824F-4E3F-A97B-0A63EDC191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2322-4D3D-4F1A-87D7-019AFA1AC3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EFE4-9953-4A31-8FA8-64EEE46D1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7CD5-2405-4E47-9D55-0362C04829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478-67D8-4B77-A5FE-EF255CBB0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244C-DFE6-484F-BBF5-7E5C215FA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C1F1-E547-4B2D-936E-EF37FF46C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486-F919-4A0F-A984-249825673E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777C-B530-4709-9857-679636CD26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87DC-B337-4C59-B348-B29F0B4FEC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979A-EE97-476C-A62F-5EE99950D0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041C-33A4-4BB3-BD95-66A640A33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41EB-2938-4554-B53A-B8AB281818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56B8-4279-430B-9542-3D714CB92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D87-3DFC-432A-89BD-414692DA4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775-59D8-4EEB-AA08-EB1406CA47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A7D3-1BA2-4169-913D-B57CC53DB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4351-EE14-4511-9D8B-B11A124B7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D76A-8D45-44CE-BBFA-4594C5A489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0A1-9A75-47C2-8717-F7A32460A7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2D2D-8E4D-4590-A222-19B014341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182D-41E5-4BDC-B676-531AD8E032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3C7E-A4B2-4ECF-9DB7-14F9D0605E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E66-AB31-4599-9CF4-5E348D813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6779-50D8-4AFA-8C1C-7620F2440B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828F-1B1A-4DF4-9C95-D3189FCA8E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FC0D-A549-48A1-ABAE-730A895CAA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2803-CED7-4DFD-A3A3-562099494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16B4-349B-4B5E-9F79-5F0536992F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0ADC-F27D-4065-BE9B-58471884F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EF21-B51D-40B4-AAEA-8F2237B40B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0247-5BC2-445B-977B-46DF04B37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7D8D-4378-4EAD-B7D2-0A00E45EB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1884-D538-4F19-8159-496D1282D1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57BB-8BD8-4650-8835-3BCFFD8D2C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22B0-771D-4646-9909-C1D4FE7CE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C743-1FC7-4D6C-A715-EBE7102738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5887-5EDC-4177-916D-37720E86CB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EC65-610F-4CDE-9C66-7D158AA906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EE59-65B1-459D-A06D-7CA6BD2DB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F029-21DA-4567-8817-24E3EA1AC0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E2D7-34C7-4FAD-A502-65DF18944E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2690-2597-4D0C-BDFA-F6400ABC06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4753-DACC-428C-AE36-CBDE7B9467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1805-C83A-456A-8F5A-B2FC740485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B552-9E8D-4084-9DD9-610BCD8F29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2352600" cy="6667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5848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673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6840" cy="43243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6738"/>
          <p:cNvSpPr/>
          <p:nvPr/>
        </p:nvSpPr>
        <p:spPr>
          <a:xfrm>
            <a:off x="5307120" y="2860560"/>
            <a:ext cx="3225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6739"/>
          <p:cNvSpPr/>
          <p:nvPr/>
        </p:nvSpPr>
        <p:spPr>
          <a:xfrm>
            <a:off x="1446120" y="3343320"/>
            <a:ext cx="55022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6740"/>
          <p:cNvSpPr/>
          <p:nvPr/>
        </p:nvSpPr>
        <p:spPr>
          <a:xfrm>
            <a:off x="2462040" y="4295880"/>
            <a:ext cx="74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6741"/>
          <p:cNvSpPr/>
          <p:nvPr/>
        </p:nvSpPr>
        <p:spPr>
          <a:xfrm>
            <a:off x="8012160" y="4778280"/>
            <a:ext cx="74124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6742"/>
          <p:cNvSpPr/>
          <p:nvPr/>
        </p:nvSpPr>
        <p:spPr>
          <a:xfrm>
            <a:off x="1459080" y="5273640"/>
            <a:ext cx="4625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571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191440" cy="323856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5714"/>
          <p:cNvSpPr/>
          <p:nvPr/>
        </p:nvSpPr>
        <p:spPr>
          <a:xfrm>
            <a:off x="1636560" y="1996920"/>
            <a:ext cx="624852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5715"/>
          <p:cNvSpPr/>
          <p:nvPr/>
        </p:nvSpPr>
        <p:spPr>
          <a:xfrm>
            <a:off x="7667640" y="2492280"/>
            <a:ext cx="51264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4689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72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3665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48880" cy="224784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3666"/>
          <p:cNvSpPr/>
          <p:nvPr/>
        </p:nvSpPr>
        <p:spPr>
          <a:xfrm>
            <a:off x="5510160" y="2073240"/>
            <a:ext cx="30225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3667"/>
          <p:cNvSpPr/>
          <p:nvPr/>
        </p:nvSpPr>
        <p:spPr>
          <a:xfrm>
            <a:off x="1611360" y="2556000"/>
            <a:ext cx="6570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8"/>
          <p:cNvSpPr/>
          <p:nvPr/>
        </p:nvSpPr>
        <p:spPr>
          <a:xfrm>
            <a:off x="6284880" y="3025800"/>
            <a:ext cx="131148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69"/>
          <p:cNvSpPr/>
          <p:nvPr/>
        </p:nvSpPr>
        <p:spPr>
          <a:xfrm>
            <a:off x="4519440" y="3521160"/>
            <a:ext cx="16369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414360" y="1704960"/>
            <a:ext cx="8315280" cy="344808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2843280" y="2708280"/>
            <a:ext cx="1441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2639880" y="3216240"/>
            <a:ext cx="14414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6792840" y="3203640"/>
            <a:ext cx="15242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3808440" y="4168800"/>
            <a:ext cx="19875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6462720" y="4168800"/>
            <a:ext cx="22129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887400" y="4664160"/>
            <a:ext cx="8049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2259000" y="4676760"/>
            <a:ext cx="2168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3905" descr=""/>
          <p:cNvPicPr/>
          <p:nvPr/>
        </p:nvPicPr>
        <p:blipFill>
          <a:blip r:embed="rId1"/>
          <a:stretch/>
        </p:blipFill>
        <p:spPr>
          <a:xfrm>
            <a:off x="433440" y="1623960"/>
            <a:ext cx="8277120" cy="361008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3906"/>
          <p:cNvSpPr/>
          <p:nvPr/>
        </p:nvSpPr>
        <p:spPr>
          <a:xfrm>
            <a:off x="7846920" y="3813120"/>
            <a:ext cx="5130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1857" descr=""/>
          <p:cNvPicPr/>
          <p:nvPr/>
        </p:nvPicPr>
        <p:blipFill>
          <a:blip r:embed="rId1"/>
          <a:stretch/>
        </p:blipFill>
        <p:spPr>
          <a:xfrm>
            <a:off x="447840" y="1467000"/>
            <a:ext cx="8248320" cy="392400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1858"/>
          <p:cNvSpPr/>
          <p:nvPr/>
        </p:nvSpPr>
        <p:spPr>
          <a:xfrm>
            <a:off x="6716880" y="1514520"/>
            <a:ext cx="18158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59"/>
          <p:cNvSpPr/>
          <p:nvPr/>
        </p:nvSpPr>
        <p:spPr>
          <a:xfrm>
            <a:off x="1484280" y="2009880"/>
            <a:ext cx="18162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1860"/>
          <p:cNvSpPr/>
          <p:nvPr/>
        </p:nvSpPr>
        <p:spPr>
          <a:xfrm>
            <a:off x="6564240" y="2467080"/>
            <a:ext cx="8161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1861"/>
          <p:cNvSpPr/>
          <p:nvPr/>
        </p:nvSpPr>
        <p:spPr>
          <a:xfrm>
            <a:off x="2843280" y="4879800"/>
            <a:ext cx="151272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0833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05920" cy="48769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0834"/>
          <p:cNvSpPr/>
          <p:nvPr/>
        </p:nvSpPr>
        <p:spPr>
          <a:xfrm>
            <a:off x="7821720" y="3317760"/>
            <a:ext cx="51264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9809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96200" cy="246708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119810" descr=""/>
          <p:cNvPicPr/>
          <p:nvPr/>
        </p:nvPicPr>
        <p:blipFill>
          <a:blip r:embed="rId2"/>
          <a:stretch/>
        </p:blipFill>
        <p:spPr>
          <a:xfrm>
            <a:off x="730080" y="3564000"/>
            <a:ext cx="7782120" cy="94284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9811"/>
          <p:cNvSpPr/>
          <p:nvPr/>
        </p:nvSpPr>
        <p:spPr>
          <a:xfrm>
            <a:off x="7812000" y="1628640"/>
            <a:ext cx="5130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5" descr=""/>
          <p:cNvPicPr/>
          <p:nvPr/>
        </p:nvPicPr>
        <p:blipFill>
          <a:blip r:embed="rId1"/>
          <a:stretch/>
        </p:blipFill>
        <p:spPr>
          <a:xfrm>
            <a:off x="433440" y="1695600"/>
            <a:ext cx="8277120" cy="346680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8786"/>
          <p:cNvSpPr/>
          <p:nvPr/>
        </p:nvSpPr>
        <p:spPr>
          <a:xfrm>
            <a:off x="7812000" y="2781360"/>
            <a:ext cx="5130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7761" descr=""/>
          <p:cNvPicPr/>
          <p:nvPr/>
        </p:nvPicPr>
        <p:blipFill>
          <a:blip r:embed="rId1"/>
          <a:stretch/>
        </p:blipFill>
        <p:spPr>
          <a:xfrm>
            <a:off x="466560" y="1776240"/>
            <a:ext cx="8210880" cy="330552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7762"/>
          <p:cNvSpPr/>
          <p:nvPr/>
        </p:nvSpPr>
        <p:spPr>
          <a:xfrm>
            <a:off x="7740720" y="2781360"/>
            <a:ext cx="512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7:52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